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SER.WAV" ContentType="audio/x-wav"/>
  <Override PartName="/ppt/media/DRIVEBY.WAV" ContentType="audio/x-wav"/>
  <Override PartName="/ppt/media/CHIMES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AEC-B962-44B8-A2D4-6694E654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742-7092-4512-AA45-210BA22A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536-9E69-45F9-B6E9-003FE3A3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B70-A922-4CD6-B448-5AF41540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0154-D534-4D95-91F8-1E1E1CE4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CB0C-6F69-4073-AEC2-1FE2D565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CBCF-9110-491F-9B61-90C8D4A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EC46-D8F3-4AB1-944A-4C1416C8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1F45-A0FA-45D7-8AC0-7C5F181D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D32-33C9-4853-92E9-F77BFC3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D674-8222-455C-B974-0F32E84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DF3-61C1-4323-B830-150FDD4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19EC-27CB-46C6-A498-DCB26A2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1938-3900-48F9-BDFA-ECF9886F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8CED-9778-4483-9BCA-181C98EE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567B-3BD2-4CE3-BEE8-FDC230C7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B88-2B9D-4DF6-8F49-F1A960CC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5CD-18C2-4FDC-974F-AADF3FE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FBC-112E-4285-BAF8-177C76F9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93F-176E-45C4-B82E-6BB2D62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34E-C873-4886-BF86-3EA5732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35D-42ED-4122-BC1C-F9506E5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AC9-1378-4524-91C9-5AF60EEA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F25-497A-42A4-8AFB-99326BB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BF8B-5C06-4058-9D9C-AF0F9FAC1B8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c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FACE-E84D-44EF-B79B-FEDE4FD4452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8672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10000"/>
                </a:solidFill>
                <a:latin typeface="Arial"/>
              </a:rPr>
              <a:t>RIGHT TRIANGLE TRIGONOMETRY</a:t>
            </a:r>
            <a:endParaRPr b="1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ga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v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456840" y="3048120"/>
            <a:ext cx="4038480" cy="175248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4640" y="312408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5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7040" y="38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0240" y="594360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38 m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3367080"/>
            <a:ext cx="2590920" cy="3416040"/>
            <a:chOff x="838080" y="3367080"/>
            <a:chExt cx="2590920" cy="3416040"/>
          </a:xfrm>
        </p:grpSpPr>
        <p:sp>
          <p:nvSpPr>
            <p:cNvPr id="199" name=""/>
            <p:cNvSpPr/>
            <p:nvPr/>
          </p:nvSpPr>
          <p:spPr>
            <a:xfrm>
              <a:off x="838080" y="33670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hy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626256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op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357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adj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514600" y="2286000"/>
            <a:ext cx="1219320" cy="1905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quir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n  this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91120" y="1828800"/>
                <a:ext cx="20113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067280" y="2971800"/>
                <a:ext cx="20127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00440" y="4119480"/>
                <a:ext cx="24811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13400" y="4724280"/>
                <a:ext cx="22111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°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086600" y="1981080"/>
            <a:ext cx="205740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304812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396252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095880"/>
            <a:ext cx="220968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4952880"/>
            <a:ext cx="1981080" cy="68580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oth sides by sin 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705200" y="6062760"/>
                <a:ext cx="2165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286000" y="579132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42840" y="4114800"/>
            <a:ext cx="152280" cy="3049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e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99"/>
                </a:solidFill>
                <a:latin typeface="Arial Narrow"/>
              </a:rPr>
              <a:t>Exercises</a:t>
            </a:r>
            <a:endParaRPr b="1" lang="en-US" sz="4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198108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Do questions 3 and 4 on your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nding an ang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86000"/>
            <a:ext cx="2438280" cy="358128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5120" y="535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2880" y="358128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56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94000" y="57913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40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95280"/>
            <a:ext cx="1752840" cy="838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6920" y="31226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9720" y="61866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666880"/>
            <a:ext cx="152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1430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962520" y="1066680"/>
                <a:ext cx="2133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781680" y="25146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in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05280" y="227160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381560" y="3429000"/>
                <a:ext cx="2057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3733920" y="4419720"/>
            <a:ext cx="4800600" cy="1631160"/>
            <a:chOff x="3733920" y="4419720"/>
            <a:chExt cx="4800600" cy="1631160"/>
          </a:xfrm>
        </p:grpSpPr>
        <p:sp>
          <p:nvSpPr>
            <p:cNvPr id="232" name=""/>
            <p:cNvSpPr/>
            <p:nvPr/>
          </p:nvSpPr>
          <p:spPr>
            <a:xfrm>
              <a:off x="3733920" y="4419720"/>
              <a:ext cx="4800600" cy="16311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ing the 2nd function (or inverse) button on your calculat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4952880" y="5181480"/>
                  <a:ext cx="235440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÷</m:t>
                      </m:r>
                      <m:r>
                        <m:rPr>
                          <m:lit/>
                          <m:nor/>
                        </m:rPr>
                        <m:t xml:space="preserve">5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685800" y="571500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other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2438280" cy="358128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724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31760" y="370044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8.7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93640" y="579132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Times New Roman"/>
              </a:rPr>
              <a:t>2.6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295280"/>
            <a:ext cx="1752840" cy="838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6920" y="32907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32440" y="6110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2666880"/>
            <a:ext cx="1523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11430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657600" y="1066680"/>
                <a:ext cx="2133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781680" y="2286000"/>
            <a:ext cx="2362320" cy="762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in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664080" y="2195640"/>
                <a:ext cx="2050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076640" y="3365640"/>
                <a:ext cx="2019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429000" y="4191120"/>
            <a:ext cx="4724280" cy="1631160"/>
            <a:chOff x="3429000" y="4191120"/>
            <a:chExt cx="4724280" cy="1631160"/>
          </a:xfrm>
        </p:grpSpPr>
        <p:sp>
          <p:nvSpPr>
            <p:cNvPr id="250" name=""/>
            <p:cNvSpPr/>
            <p:nvPr/>
          </p:nvSpPr>
          <p:spPr>
            <a:xfrm>
              <a:off x="3429000" y="4191120"/>
              <a:ext cx="4724280" cy="16311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ing the 2nd function (or inverse) button on your calculato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419720" y="4952880"/>
                  <a:ext cx="263844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÷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2" name=""/>
          <p:cNvSpPr/>
          <p:nvPr/>
        </p:nvSpPr>
        <p:spPr>
          <a:xfrm>
            <a:off x="685800" y="571500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f1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99"/>
                </a:solidFill>
                <a:latin typeface="Arial Narrow"/>
              </a:rPr>
              <a:t>Exercises</a:t>
            </a:r>
            <a:endParaRPr b="1" lang="en-US" sz="4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0574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Complete the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10200" y="836640"/>
            <a:ext cx="648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10000"/>
                </a:solidFill>
                <a:latin typeface="Arial"/>
              </a:rPr>
              <a:t>We wish to thank our supporters:</a:t>
            </a:r>
            <a:endParaRPr b="0" lang="en-US" sz="3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Right Triangles and Trigonometry</a:t>
            </a:r>
            <a:endParaRPr b="1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743200"/>
            <a:ext cx="4114800" cy="251460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18800">
            <a:off x="4952160" y="362556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ypotenus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105520"/>
            <a:ext cx="15228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orrectly identifying the sid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5640" y="12189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hypotenus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495680"/>
            <a:ext cx="4419720" cy="167652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7680" y="47386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91840" y="57546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5º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50180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64440" y="61610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1752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e the specified angl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86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side opposite this angle and label it 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31240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bel the third side as adjacent using adj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601992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Agai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5640" y="12189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hypotenus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495680"/>
            <a:ext cx="4419720" cy="167652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7680" y="47386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840" y="464652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8º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8600" y="609588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54400" y="51055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1752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e the specified angl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286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y the side opposite this angle and label it 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bel the third side as adjacent using adj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01992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Learn the trig ratios for right triangle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57600" y="2133720"/>
                <a:ext cx="2381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81280" y="3505320"/>
                <a:ext cx="24386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581280" y="4876920"/>
                <a:ext cx="25146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907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304560" y="3047760"/>
            <a:ext cx="4038480" cy="175284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6560" y="548640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5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680" y="36385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40 c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09840" y="58752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52388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0800" y="32367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3933720"/>
            <a:ext cx="78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Arial"/>
              </a:rPr>
              <a:t>opp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9720" y="61992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590920"/>
            <a:ext cx="190512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requir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n  this ca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3657600"/>
            <a:ext cx="228600" cy="380880"/>
          </a:xfrm>
          <a:prstGeom prst="line">
            <a:avLst/>
          </a:prstGeom>
          <a:ln w="442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00600" y="1905120"/>
                <a:ext cx="19810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76760" y="3054240"/>
                <a:ext cx="2076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25960" y="4308480"/>
                <a:ext cx="2644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57800" y="5105520"/>
                <a:ext cx="2514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086600" y="2057400"/>
            <a:ext cx="20574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320040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4267080"/>
            <a:ext cx="220968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638680"/>
            <a:ext cx="220968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579132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y this 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43200" y="106632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304560" y="3428640"/>
            <a:ext cx="4038480" cy="175284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6560" y="586584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7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680" y="39751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8 c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4095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52388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84520" y="3605040"/>
            <a:ext cx="2635920" cy="3142800"/>
            <a:chOff x="884520" y="3605040"/>
            <a:chExt cx="2635920" cy="3142800"/>
          </a:xfrm>
        </p:grpSpPr>
        <p:sp>
          <p:nvSpPr>
            <p:cNvPr id="152" name=""/>
            <p:cNvSpPr/>
            <p:nvPr/>
          </p:nvSpPr>
          <p:spPr>
            <a:xfrm>
              <a:off x="884520" y="360504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hy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5360" y="365616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"/>
                </a:rPr>
                <a:t>opp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1640" y="628812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Arial"/>
                </a:rPr>
                <a:t>adj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666880" y="5867280"/>
            <a:ext cx="1752840" cy="838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Not require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n  this cas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133720"/>
                <a:ext cx="20113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76760" y="3200400"/>
                <a:ext cx="1982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24160" y="4386240"/>
                <a:ext cx="2448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295960" y="5183280"/>
                <a:ext cx="2346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7086600" y="2286000"/>
            <a:ext cx="20574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42900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41972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71500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09680" y="6553080"/>
            <a:ext cx="609840" cy="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617220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e4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99"/>
                </a:solidFill>
                <a:latin typeface="Arial Narrow"/>
              </a:rPr>
              <a:t>Exercises</a:t>
            </a:r>
            <a:endParaRPr b="1" lang="en-US" sz="4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98108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Do questions 1 and 2 on your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other typ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3200" y="12193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nd the length of the side marked with the variable 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304560" y="3200040"/>
            <a:ext cx="4038480" cy="1752840"/>
          </a:xfrm>
          <a:prstGeom prst="rtTriangle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4800" y="316224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2º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1680" y="4052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8840" y="60199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2 c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523880"/>
            <a:ext cx="175248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your sid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40560" y="6318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9040" y="44956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895480"/>
            <a:ext cx="1752480" cy="99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Not require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n  this cas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267080" y="2133720"/>
                <a:ext cx="20415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43240" y="3200400"/>
                <a:ext cx="20131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20960" y="4308480"/>
                <a:ext cx="2481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691160" y="4863960"/>
                <a:ext cx="2244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°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7086600" y="2286000"/>
            <a:ext cx="20574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ppropriate rat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3429000"/>
            <a:ext cx="182880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the known value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434340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both sides by the denominator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6248520"/>
            <a:ext cx="2209680" cy="609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your calculator to evaluat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848040"/>
            <a:ext cx="76320" cy="30492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5257800"/>
            <a:ext cx="1981080" cy="685800"/>
          </a:xfrm>
          <a:prstGeom prst="rect">
            <a:avLst/>
          </a:prstGeom>
          <a:solidFill>
            <a:srgbClr val="fcfdc6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oth sides by tan 3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00600" y="6095880"/>
                <a:ext cx="2133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 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38280" y="5943600"/>
            <a:ext cx="152640" cy="152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6800" y="40528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y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0:45:24Z</dcterms:created>
  <dc:creator>Academicai PowerPoint</dc:creator>
  <dc:description/>
  <dc:language>en-US</dc:language>
  <cp:lastModifiedBy>David Parnis</cp:lastModifiedBy>
  <cp:lastPrinted>2002-09-23T10:51:25Z</cp:lastPrinted>
  <dcterms:modified xsi:type="dcterms:W3CDTF">2004-11-08T05:19:45Z</dcterms:modified>
  <cp:revision>55</cp:revision>
  <dc:subject>Mathematics</dc:subject>
  <dc:title>Right Triangle Trigonometry</dc:title>
</cp:coreProperties>
</file>